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46FA-C27B-43B4-AFC5-9BAD8657C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4. Соединения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е 4/3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ция № 13. Резьбовые соединения (РС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FE0A-4B33-4A3A-BAD3-9A27591D9F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3.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ияние профильного угла резьбы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/2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еличину приведённых коэффициента и угла т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1E51-0C7E-45FE-B7CF-CF2730D95B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ПД винтовой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едущем вращательном дви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C040-7E48-43B6-8CB4-2F623958AC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стопо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07A3-20F2-4759-981D-C665AA3E44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. 13.11. Некоторые способы стопорения резьбовых соединени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кой пружинной шайбы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ужинная шайба в свободном состоянии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ная гайка со шплинт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гибная шайба с ус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язка болтов проволокой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клёпывание выступающего конца болта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рнение в резьбу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хватка сваркой в резьбу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915D-CA10-40A8-B7CD-FBF789C143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ной расчёт 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риала к его пределу прочности умноженному на 10. В стандарте представлен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классов проч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8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0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4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.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-4Х13. 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необходима повышенная кислотостойкость бол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4C81-D891-45A9-808C-3CAB21CC8F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ющими напряжени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переходной области между телом и головкой возник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сатель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в витках резьб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я изги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дновременно. Таким образом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асто наблюд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ы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пр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145A-FD13-4278-9C8C-1DC675E7CF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ные схемы и форм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ий диаметр резьбы резьбового стержня по заданному внешнему усилию выбирают по форму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5323-1847-45CF-A886-4EDA491F0E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1602-A0A1-424F-A6B9-1565B15A46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учае тело болта нагружается перерезывающей силой, и диаметр призонной части болта определяется из расчёта на срез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плоскостей среза;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(0,2…0,3)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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937F-4C3C-4184-86CD-BF520422B1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счет группового соединения, воспринимающего моментную нагруз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верка способности соединения воспринимать переменную нагрузк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оверка соединения на нераскрытие сты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верка соединения на восприятие температурной нагруз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ACC1-C40E-41D3-87F9-2FFDBD02AD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вые соедин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признаком резьбового соединения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резь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тя бы на некоторых из деталей, входящих в соед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винтовой лин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 поверхности тела вращения (обычно цилиндра или кону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5305-361C-4D1D-BD4D-FCBAAE2C1F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действием этого усилия болт получает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тягиваемые детали сжимаются, получая укороч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атливость болта и стягиваемых деталей, соответственно. Податливость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ресивера газом под давлением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736-97A8-4E19-A677-35C905AD51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сивера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авление газа в ресивере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ю рабочей нагрузки, затраченную на удлинение болта, обозначим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часть рабочей нагрузки. Условие совместности деформации в этом случае запишется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удлинение болта равное удлинению стягиваемых деталей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болта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соединяемых де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венства (13.16) получ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ая нагрузка на болт в этом случа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032-7943-4DC8-9735-1C0D1CE90E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я (13.18) и (13.19), видим, что чем выше податливость болта  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), тем меньшая доля рабочей нагрузки приходится непосредственно на бол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ектном приближённом расчёте приним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альных и чугунных деталей, стягиваемых без прокладки,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2…0,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4…0,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крытие сты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ушится плотность соеди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4B1-08B0-4CA4-87B6-1A66637122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актических расчетах с целью обеспечения нераскрытия стыка приним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,25…2,0,  при  меняющейся  нагрузке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5…4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с учетом 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425-E514-47DD-A491-0847C5AF52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13.1. Образование винтовой линии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и треугольной резьбы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 несущего цилиндра (наружный диаметр резьб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винтовой ли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винтовой ли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DDC4-7D3F-4B37-85CE-F3C29410F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озможность создания больших осевых нагрузок при малых усилиях на инстр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озможность фиксации в затянутом состоянии (самотормож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удобство сборки и разборки с применением стандартных инстр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стота конструкции и возможность точного изгото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наличие широкой номенклатуры стандартных крепёжных изделий (винты, болты гайк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малые габариты в сравнении с соединяемыми дета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ысокая концентрация напряжений в дне резьбовой канав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значительные энергопотери в подвижных резьбовых соединениях (низкий КП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большая неравномерность распределения нагрузки по виткам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склонность к самоотвинчнванию при знакопеременных нагруз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слабление соединения и быстрый износ резьбы при частых сборках и разбор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A24-F408-4A09-8ADC-87EE27F080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резь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луатационн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оверх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сущей резьбу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илиндрическая и кон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рофи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ы в поперечном сечении нарезки (рис. 13.2)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угольная, трапецеидальная, упорная, прямоугольная, кругл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руж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внутрення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личине ша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рмальная (с крупным шагом нарезки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лкая (с уменьшенным шагом нарезки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по направлению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в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меняется чаще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но-, двух-, трёх-, и т.д., многозах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ходн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рической сис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р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FBE-2EF8-48D8-915E-11EC173629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епёжн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место шага для этой резьбы задаё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 витков (ниток) на один дюй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ины (1 дюйм = 25,4 м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BCAB-3F65-496A-8704-6E9D270D8B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 мет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геометр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трическ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ьбы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цифрой, равно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 мм, например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2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зьбы га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утренний диаметр резьбы ви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редний диаметр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аг резьбы – расстояние между соседними гребнями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рофиля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рез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F41B-0A62-4040-8E77-9CDC03F9D0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лы в 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5E7B-C35E-4BFA-BE36-76044F175B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тянутом положении наиболее надёжной является метрическ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 точки зрения уменьшения потерь энерг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м. таб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3D86-C545-4A4D-B5E8-F362918919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CDA-536D-4DBA-B906-D338FD71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5DF-DE8F-4E80-BD7C-1C23556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43D-5318-4439-B018-41D5B17E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1F9-F2E9-4175-9575-48B47F34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87F4-BE30-455A-8273-0CB8341B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F92F-954E-41B2-B838-9183759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8CA-B64B-4AE5-A908-F17B821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4934-1DF4-4562-B1C7-5B0E7EBC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6ACF-E1F7-4BC5-A52A-D2C2EBE7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75B7-8E89-4444-94A0-19C64160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6993-7B7A-4F9D-A135-0D26192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637-C6F1-4354-B9B9-11845267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EBCD-81FF-4227-A497-A1AF7A1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663-B408-4D03-B805-965EF1C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2A21-6F43-40D6-976C-D5E4841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037F-A281-4776-9E4C-EFA9986B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1990-15C1-4EB4-8E9C-65BF8DAE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E98-2EB3-4BB1-BE90-68E32CA5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38B-5DE7-4373-A089-2D4B9E5D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A3F-017F-4577-AB1D-EC92E06F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0CC-8BBE-484A-A6D1-20F7D5B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220-A2C9-4C92-BF30-726188D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CCA-9F2C-4745-BF08-BF06645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3AD-40D3-4E6B-9C54-5201D6D8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7CA9-3EE4-4CE3-A1BA-33B474D4B0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6167-A22F-4D60-B1F8-6C396F4DE7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 4. Соедин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нятие 4/3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кция № 13. Резьбовые соединения (РС)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50920" y="2046240"/>
            <a:ext cx="8497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, изложенные в ле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я и кинематика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лы в РС, передача энергии, стопорение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чностной расчёт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еб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али машин и подъемное оборудование. Под  рук.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И. Мельнико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М.: Воениздат, 1980. стр. 299-32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.Г. Кукл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др. Детали машин: Учебник для техникумов / Н.Г. Куклин, Г.С. Куклина, В.К. житков.- 5-е изд., перераб. и допол.- М.: Илекса, 1999.- с. 48…7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ловьев В.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тали машин (Курс лекций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ь). - Новосибирск: НВИ, 1997. стр. 30-7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блица 13.1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профильного угла резьбы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/2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величину приведённых коэффициента и угла тр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648320" y="2616120"/>
          <a:ext cx="4194000" cy="1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16120"/>
                    <a:ext cx="4194000" cy="1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34"/>
          <p:cNvGraphicFramePr/>
          <p:nvPr/>
        </p:nvGraphicFramePr>
        <p:xfrm>
          <a:off x="5114880" y="4957920"/>
          <a:ext cx="3260880" cy="10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1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4880" y="4957920"/>
                    <a:ext cx="326088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50920" y="1341360"/>
          <a:ext cx="8713800" cy="5410440"/>
        </p:xfrm>
        <a:graphic>
          <a:graphicData uri="http://schemas.openxmlformats.org/drawingml/2006/table">
            <a:tbl>
              <a:tblPr/>
              <a:tblGrid>
                <a:gridCol w="1473120"/>
                <a:gridCol w="1984320"/>
                <a:gridCol w="1068480"/>
                <a:gridCol w="2093760"/>
                <a:gridCol w="2094120"/>
              </a:tblGrid>
              <a:tr h="366120"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ь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е 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ый коэффициент трения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'/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й угол трения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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градус., при фактическом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уг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р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юйм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пецеид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0" rIns="36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рна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ПД винтовой пар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9179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вращ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508720" y="1197000"/>
                <a:ext cx="3024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 Box 6"/>
          <p:cNvSpPr/>
          <p:nvPr/>
        </p:nvSpPr>
        <p:spPr>
          <a:xfrm>
            <a:off x="250920" y="335772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поступ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5580000" y="2924280"/>
                <a:ext cx="295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 Box 9"/>
          <p:cNvSpPr/>
          <p:nvPr/>
        </p:nvSpPr>
        <p:spPr>
          <a:xfrm>
            <a:off x="324000" y="4581360"/>
            <a:ext cx="85690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угол подъема винтовой линии резьбы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≤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веденного угла трения,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еобразование поступательного движения во вращательное невозмож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836640"/>
            <a:ext cx="9144000" cy="59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иды стопоре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7" name="Picture 4" descr="СоедРез(стопор)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38894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324000" y="4941720"/>
            <a:ext cx="8569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1. Некоторые способы стопорения резьбовых соединений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тановкой пружинной шайбы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ужинная шайба в свободном состоянии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онная гайка со шплинт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гибная шайба с ус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язка болтов проволокой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клёпывание выступающего конца болта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нение в резьбу;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хватка сваркой в резьб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чностной расчёт РС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материала к его пределу прочности умноженному на 10. В стандарте представлены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2 классов прочности: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3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6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8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0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2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4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.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-4Х13. 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необходима повышенная кислотостойкость болт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нообраз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тягивающими напряж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переходной области между телом и головкой возника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сатель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в витках резьбы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яжения изги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мят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дновременно. Таким образом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чност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Часто наблюд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ы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внопр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четные схемы и формул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6" name="Picture 4" descr="СоедРез(РазрывРасчет)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2685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179280" y="3933720"/>
            <a:ext cx="34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2. Болтовое соединение, нагруженное растягивающе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3635280" y="10526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5076720" y="2492280"/>
                <a:ext cx="2087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1" name="Text Box 10"/>
          <p:cNvSpPr/>
          <p:nvPr/>
        </p:nvSpPr>
        <p:spPr>
          <a:xfrm>
            <a:off x="3635280" y="3789360"/>
            <a:ext cx="532944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силие воспринимаемое резьбовым соединени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зьбовой части стержн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допускаемые напряжения для материала стержня при растяже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СоедРез(СдвигРасчет)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000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0" y="3429000"/>
            <a:ext cx="3816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3. Болтовое соединение, нагруженное поперечной сил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али от взаимного смещения удерживаются силой тр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28472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211640" y="18900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0"/>
              <p:cNvSpPr txBox="1"/>
              <p:nvPr/>
            </p:nvSpPr>
            <p:spPr>
              <a:xfrm>
                <a:off x="5003640" y="1844640"/>
                <a:ext cx="3097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9" name="Text Box 12"/>
          <p:cNvSpPr/>
          <p:nvPr/>
        </p:nvSpPr>
        <p:spPr>
          <a:xfrm>
            <a:off x="435600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4140360" y="3357720"/>
            <a:ext cx="47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трения для контактирующих поверхностей деталей, остальные величины определены выш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2987640" y="6021360"/>
                <a:ext cx="252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СоедРез(СрезРасчет)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303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7928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4. Соединение деталей призонным болтом, нагруженное поперечно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067280" y="260280"/>
            <a:ext cx="50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246560" y="26028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случае тело болта нагружается перерезывающей силой, и диаметр призонной части болта определяется из расчёта на срез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9"/>
              <p:cNvSpPr txBox="1"/>
              <p:nvPr/>
            </p:nvSpPr>
            <p:spPr>
              <a:xfrm>
                <a:off x="5076720" y="1628640"/>
                <a:ext cx="24494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1" name="Text Box 11"/>
          <p:cNvSpPr/>
          <p:nvPr/>
        </p:nvSpPr>
        <p:spPr>
          <a:xfrm>
            <a:off x="4390920" y="3068640"/>
            <a:ext cx="4753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плоскостей срез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(0,2…0,3)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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расчет группового соединения, воспринимающего моментную нагрузк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проверка способности соединения воспринимать переменную нагруз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роверка соединения на нераскрытие сты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проверка соединения на восприятие температурной нагруз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ределе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вые соединения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м признаком резьбового соединения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личие резьб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хотя бы на некоторых из деталей, входящих в соедин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й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винтовой лини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 поверхности тела вращения (обычно цилиндра или конус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примера рассмотрим расчет стыкового соединения крышки с корпусом ресивера (рис.13.1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Picture 5" descr="СоедРез(СтыкРасчет)"/>
          <p:cNvPicPr/>
          <p:nvPr/>
        </p:nvPicPr>
        <p:blipFill>
          <a:blip r:embed="rId1"/>
          <a:stretch/>
        </p:blipFill>
        <p:spPr>
          <a:xfrm>
            <a:off x="0" y="692280"/>
            <a:ext cx="3419640" cy="27781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357336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15. Болтовое соединение корпуса и крышки ресиве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419640" y="692280"/>
            <a:ext cx="5724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д действием этого усилия болт получает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тягиваемые детали сжимаются, получая укороч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датливость болта и стягиваемых деталей, соответственно. Податливость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0" y="4437000"/>
            <a:ext cx="9144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заполнения ресивера газом под давлени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9"/>
              <p:cNvSpPr txBox="1"/>
              <p:nvPr/>
            </p:nvSpPr>
            <p:spPr>
              <a:xfrm>
                <a:off x="3635280" y="5973840"/>
                <a:ext cx="1970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0" y="0"/>
            <a:ext cx="9144000" cy="73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сивера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давление газа в ресивере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ю рабочей нагрузки, затраченную на удлинение болта, обозначим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часть рабочей нагрузки. Условие совместности деформации в этом случае запишется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длинение болта равное удлинению стягиваемых деталей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болта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соединяемых дет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равенства (13.16) получ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ая нагрузка на болт в эт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9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5"/>
              <p:cNvSpPr txBox="1"/>
              <p:nvPr/>
            </p:nvSpPr>
            <p:spPr>
              <a:xfrm>
                <a:off x="1476360" y="3500280"/>
                <a:ext cx="563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2484360" y="5348160"/>
                <a:ext cx="283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2843280" y="6262560"/>
                <a:ext cx="264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0" y="0"/>
            <a:ext cx="91440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(13.18) и (13.19), видим, что чем выше податливость болта   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), тем меньшая доля рабочей нагрузки приходится непосредственно на бол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ном приближённом расчёте приним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стальных и чугунных деталей, стягиваемых без прокладки,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2…0,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4…0,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19080" y="311040"/>
                <a:ext cx="2298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8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843280" y="3933720"/>
                <a:ext cx="3206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δl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Δl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26" name="Text Box 9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крытие сты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рушится плотность соедин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0"/>
            <a:ext cx="91440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ческих расчетах с целью обеспечения нераскрытия стыка приним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1,25…2,0,  при  меняющейся  нагрузке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2,5…4,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 учетом 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3.2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059280" y="0"/>
                <a:ext cx="293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7"/>
              <p:cNvSpPr txBox="1"/>
              <p:nvPr/>
            </p:nvSpPr>
            <p:spPr>
              <a:xfrm>
                <a:off x="2484360" y="1197000"/>
                <a:ext cx="3826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9"/>
              <p:cNvSpPr txBox="1"/>
              <p:nvPr/>
            </p:nvSpPr>
            <p:spPr>
              <a:xfrm>
                <a:off x="2916360" y="3645000"/>
                <a:ext cx="3368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2050920" y="4581360"/>
                <a:ext cx="47721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0" y="625464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Успехов в учебе!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СоедРез(ВлинРезьба)"/>
          <p:cNvPicPr/>
          <p:nvPr/>
        </p:nvPicPr>
        <p:blipFill>
          <a:blip r:embed="rId1"/>
          <a:stretch/>
        </p:blipFill>
        <p:spPr>
          <a:xfrm>
            <a:off x="755640" y="260280"/>
            <a:ext cx="7916760" cy="3300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826920" y="378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. Образование винтовой линии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 и треугольной резьбы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755640" y="4797360"/>
            <a:ext cx="770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метр несущего цилиндра (наружный диаметр резьб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д винтовой ли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ол подъёма винтовой ли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остоинства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озможность создания больших осевых нагрузок при малых усилиях на инструмен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возможность фиксации в затянутом состоянии (самоторможение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удобство сборки и разборки с применением стандартных инструмент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простота конструкции и возможность точного изготовл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наличие широкой номенклатуры стандартных крепёжных изделий (винты, болты гай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7) малые габариты в сравнении с соединяемыми деталям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Недостатки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ысокая концентрация напряжений в дне резьбовой канав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значительные энергопотери в подвижных резьбовых соединениях (низкий КПД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большая неравномерность распределения нагрузки по виткам резьб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склонность к самоотвинчнванию при знакопеременных нагрузк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ослабление соединения и быстрый износ резьбы при частых сборках и разборка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ассификация резьб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эксплуатационном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знач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оверх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несущей резьбу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цилиндрическая и коническ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рофил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ы в поперечном сечении нарезки (рис. 13.2) 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треугольная, трапецеидальная, упорная, прямоугольная, кругл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располож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аружн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внутрення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величине шаг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ормальная (с крупным шагом нарезки)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лкая (с уменьшенным шагом нарезки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по направлению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ав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применяется чаще) 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ле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одно-, двух-, трёх-, и т.д., многозаходн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ходной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трической систем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трическ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СоедРез(ВидыРезьб)"/>
          <p:cNvPicPr/>
          <p:nvPr/>
        </p:nvPicPr>
        <p:blipFill>
          <a:blip r:embed="rId1"/>
          <a:stretch/>
        </p:blipFill>
        <p:spPr>
          <a:xfrm>
            <a:off x="0" y="260280"/>
            <a:ext cx="4643280" cy="1293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СоедРез(РезьбаМетр)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217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250920" y="1773360"/>
            <a:ext cx="43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2. различные профили резьб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е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апециеда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порный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ямо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угл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2421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3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рической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716360" y="342900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епёжна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= 55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место шага для этой резьбы задаё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ло витков (ниток) на один дюй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ины (1 дюйм = 25,4 м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СоедРез(РезьбаТрубТрап)"/>
          <p:cNvPicPr/>
          <p:nvPr/>
        </p:nvPicPr>
        <p:blipFill>
          <a:blip r:embed="rId3"/>
          <a:srcRect l="0" t="0" r="51629" b="0"/>
          <a:stretch/>
        </p:blipFill>
        <p:spPr>
          <a:xfrm>
            <a:off x="250920" y="3789360"/>
            <a:ext cx="4021200" cy="1800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6"/>
          <p:cNvSpPr/>
          <p:nvPr/>
        </p:nvSpPr>
        <p:spPr>
          <a:xfrm>
            <a:off x="250920" y="58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4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убной резьб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557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езьба метрическа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4" descr="СоедРез(РезьбаМетр)"/>
          <p:cNvPicPr/>
          <p:nvPr/>
        </p:nvPicPr>
        <p:blipFill>
          <a:blip r:embed="rId1"/>
          <a:stretch/>
        </p:blipFill>
        <p:spPr>
          <a:xfrm>
            <a:off x="4716360" y="765000"/>
            <a:ext cx="4427640" cy="2179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0" y="981000"/>
            <a:ext cx="47163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ые геометрические парамет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етричес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ьбы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цифрой, равной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 мм, например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2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0" y="2852640"/>
            <a:ext cx="91440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внутренний диаметр резьбы гай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утренний диаметр резьбы ви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редний диаметр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шаг резьбы – расстояние между соседними гребнями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рофиля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одъёма резьб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3276720" y="6093000"/>
                <a:ext cx="251928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28303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илы в Р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4" descr="СоедРез(силы)"/>
          <p:cNvPicPr/>
          <p:nvPr/>
        </p:nvPicPr>
        <p:blipFill>
          <a:blip r:embed="rId1"/>
          <a:stretch/>
        </p:blipFill>
        <p:spPr>
          <a:xfrm>
            <a:off x="0" y="1052640"/>
            <a:ext cx="5184720" cy="29480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684360" y="407664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9. Силы в винтов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нематической па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292720" y="260280"/>
            <a:ext cx="3851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5423040" y="1557360"/>
                <a:ext cx="3481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1"/>
          <p:cNvSpPr/>
          <p:nvPr/>
        </p:nvSpPr>
        <p:spPr>
          <a:xfrm>
            <a:off x="5364000" y="220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трения в витках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2"/>
              <p:cNvSpPr txBox="1"/>
              <p:nvPr/>
            </p:nvSpPr>
            <p:spPr>
              <a:xfrm>
                <a:off x="5788080" y="2708280"/>
                <a:ext cx="2320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Text Box 14"/>
          <p:cNvSpPr/>
          <p:nvPr/>
        </p:nvSpPr>
        <p:spPr>
          <a:xfrm>
            <a:off x="5435640" y="36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- коэффициент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50920" y="4797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6"/>
              <p:cNvSpPr txBox="1"/>
              <p:nvPr/>
            </p:nvSpPr>
            <p:spPr>
              <a:xfrm>
                <a:off x="2765520" y="5445000"/>
                <a:ext cx="3541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19"/>
          <p:cNvSpPr/>
          <p:nvPr/>
        </p:nvSpPr>
        <p:spPr>
          <a:xfrm>
            <a:off x="179280" y="638172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95280" y="6308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угол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СоедРез(силыПрямТреуг)"/>
          <p:cNvPicPr/>
          <p:nvPr/>
        </p:nvPicPr>
        <p:blipFill>
          <a:blip r:embed="rId1"/>
          <a:stretch/>
        </p:blipFill>
        <p:spPr>
          <a:xfrm>
            <a:off x="179280" y="189000"/>
            <a:ext cx="3324240" cy="34462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179280" y="3789360"/>
            <a:ext cx="3097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0. Силы на витках резьбы 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0: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ямоугольная резьба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реугольная резь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708360" y="189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дённый коэффициент трения для треугольной резь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8"/>
              <p:cNvSpPr txBox="1"/>
              <p:nvPr/>
            </p:nvSpPr>
            <p:spPr>
              <a:xfrm>
                <a:off x="5076720" y="836640"/>
                <a:ext cx="25196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0"/>
          <p:cNvSpPr/>
          <p:nvPr/>
        </p:nvSpPr>
        <p:spPr>
          <a:xfrm>
            <a:off x="3708360" y="234936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приведённый угол тр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003640" y="2997360"/>
                <a:ext cx="2737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 Box 13"/>
          <p:cNvSpPr/>
          <p:nvPr/>
        </p:nvSpPr>
        <p:spPr>
          <a:xfrm>
            <a:off x="3780000" y="3716280"/>
            <a:ext cx="51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затянутом положении наиболее надёжной является метрическ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 точки зрения уменьшения потерь энерг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м. табл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8:09:10Z</dcterms:created>
  <dc:creator>Владлен В. Коробков</dc:creator>
  <dc:description/>
  <dc:language>en-US</dc:language>
  <cp:lastModifiedBy>LEGION</cp:lastModifiedBy>
  <dcterms:modified xsi:type="dcterms:W3CDTF">2015-03-31T08:34:58Z</dcterms:modified>
  <cp:revision>42</cp:revision>
  <dc:subject/>
  <dc:title>Тема 4. Соединения Занятие 4/3 Лекция № 13</dc:title>
</cp:coreProperties>
</file>